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move the slide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16B1-0ED0-4B15-BC8F-46B4A8AF69D7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2E89-1EFC-4F59-9355-80685DC89677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D607-ED7F-476E-B387-FC3D6E3BCDB6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CC55-0A42-4F15-AB23-F9508E0FB553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5052-13F7-4F69-B328-39ED9F832661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1BC4-6E0F-4E9A-8070-14E2097F2D03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3FE6-F325-4F83-8A39-D736EFD95AC7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4CDD-60BD-4459-B534-29F879CCB7E5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A6A8-76C4-423B-8F04-532951C3C6EE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E126-CD29-4F29-9FF8-90259B1AE663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821F-0C24-46B3-94E1-C19A39E6E242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E6C-D301-44A7-8452-8DDF77D9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F83-F706-4CA5-83D7-27D5A676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91E-48EC-4C6B-B135-8D689BB7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E9F-4AEF-4FFB-9676-2890A85E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3917-FEB5-4087-A4FD-BF2DEB60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FE77-43D1-4319-B44F-61435CF1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2C0C-604E-49C7-8893-D0E589E1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4D22-B55F-46BA-B322-16E496E6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F359-0268-45C8-89AF-A5D0BD87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D1A2-DF9F-41AD-B35F-AA2C1184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4209-BFAC-46A4-8387-C35198E6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0CA-3599-48F9-B3B8-CC1B9555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BD87-D426-469D-85E9-02DA4D6D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73A0-B988-4E57-A227-7461815E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F369-DFD7-4B92-AF00-77ADB2B6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F422-BB91-405B-A2D8-4F26887A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9C68-4688-480E-91E1-882A1DDE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178-042A-4D14-A69C-0705C5D9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13A-EAD7-4607-A29A-ACF3187A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27D-63C3-4322-9537-AD82D83E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1B2-B1E4-4A05-8A17-BEF05142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E71-D8D0-4207-8D0F-DE13C7B5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469-6C19-48BD-B208-F920FBE5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392-293D-435A-87F4-34F7890F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c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fafcfd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6dbdc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925C-7892-4615-BDC3-10EE2EAA2335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d26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26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164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4e4e7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51afb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1743-7294-470B-851C-5FB614E6DEEE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A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성과평가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양적평가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가족중심실천의 정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1/5.0=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존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선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편입견 배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융통적인 스케줄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쉬운용어의 선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희망부여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기결정권의 명확화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9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사업에 대한 의견수렴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동일한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 추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어려울 때 다시 찾을 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실무자에게 연락 용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변화영역에 대한 인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5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건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연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직무능력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0/5.0=8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상사나 동료와의 업무협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도움요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제해결에 대한 확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타인 동료의 인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노력에 의한 조직변화 기대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업무수행에 대한 확신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실천원리에 대한 인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2/5.0=</a:t>
            </a:r>
            <a:r>
              <a:rPr b="0" lang="en-US" sz="2400" spc="-1" strike="noStrike">
                <a:solidFill>
                  <a:srgbClr val="dd2b07"/>
                </a:solidFill>
                <a:latin typeface="Arial"/>
                <a:ea typeface="HY견고딕"/>
              </a:rPr>
              <a:t>6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다른 측정지표에 비해 현저히 낮은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성공경험에 초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이용자 입장 우선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와의 협력 강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전문가의 주도적 개입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1.8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직면기술의 사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문제분류와 유형화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4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이용자 저항에대한 인식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201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1"/>
          <p:cNvSpPr/>
          <p:nvPr/>
        </p:nvSpPr>
        <p:spPr>
          <a:xfrm>
            <a:off x="1857240" y="2000160"/>
            <a:ext cx="6696360" cy="32292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아동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가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와 연계자원 대상으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서비스 이용 전후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경험을 질적 연구방법을 통해 비교함으로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의 성과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33336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성과 평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0" y="1571760"/>
            <a:ext cx="2303280" cy="936360"/>
            <a:chOff x="0" y="1571760"/>
            <a:chExt cx="2303280" cy="936360"/>
          </a:xfrm>
        </p:grpSpPr>
        <p:sp>
          <p:nvSpPr>
            <p:cNvPr id="242" name="AutoShape 17"/>
            <p:cNvSpPr/>
            <p:nvPr/>
          </p:nvSpPr>
          <p:spPr>
            <a:xfrm>
              <a:off x="0" y="1571760"/>
              <a:ext cx="2303280" cy="936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 Box 18"/>
            <p:cNvSpPr/>
            <p:nvPr/>
          </p:nvSpPr>
          <p:spPr>
            <a:xfrm>
              <a:off x="510840" y="1821600"/>
              <a:ext cx="16812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214200" y="17859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연구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2071800" y="1143000"/>
            <a:ext cx="6643440" cy="2428920"/>
            <a:chOff x="2071800" y="1143000"/>
            <a:chExt cx="6643440" cy="2428920"/>
          </a:xfrm>
        </p:grpSpPr>
        <p:sp>
          <p:nvSpPr>
            <p:cNvPr id="249" name="Rectangle 8"/>
            <p:cNvSpPr/>
            <p:nvPr/>
          </p:nvSpPr>
          <p:spPr>
            <a:xfrm>
              <a:off x="2071800" y="1143000"/>
              <a:ext cx="6643440" cy="107172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서비스수혜자인 아동과 가족은 서비스 이용 전과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이용 후에 어떤 어려움과 변화를 경험하는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2071800" y="2357640"/>
              <a:ext cx="6643440" cy="12142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아동과 가족이 인식한 변화를 가능하게 한 서비스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내용과 개입방법은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285840" y="642960"/>
            <a:ext cx="2302920" cy="936720"/>
            <a:chOff x="285840" y="642960"/>
            <a:chExt cx="2302920" cy="936720"/>
          </a:xfrm>
        </p:grpSpPr>
        <p:sp>
          <p:nvSpPr>
            <p:cNvPr id="252" name="AutoShape 12"/>
            <p:cNvSpPr/>
            <p:nvPr/>
          </p:nvSpPr>
          <p:spPr>
            <a:xfrm>
              <a:off x="285840" y="642960"/>
              <a:ext cx="2302920" cy="93672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96680" y="892800"/>
              <a:ext cx="16808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611280" y="3933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00040" y="857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2071800" y="3713040"/>
            <a:ext cx="6643440" cy="2382120"/>
            <a:chOff x="2071800" y="3713040"/>
            <a:chExt cx="6643440" cy="2382120"/>
          </a:xfrm>
        </p:grpSpPr>
        <p:sp>
          <p:nvSpPr>
            <p:cNvPr id="257" name="Rectangle 16"/>
            <p:cNvSpPr/>
            <p:nvPr/>
          </p:nvSpPr>
          <p:spPr>
            <a:xfrm>
              <a:off x="2071800" y="371304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아동과 가족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역사회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변화는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2071800" y="499968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4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변화에 도움이 된 요인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50920" y="620640"/>
            <a:ext cx="6716880" cy="2239560"/>
            <a:chOff x="2050920" y="620640"/>
            <a:chExt cx="6716880" cy="2239560"/>
          </a:xfrm>
        </p:grpSpPr>
        <p:sp>
          <p:nvSpPr>
            <p:cNvPr id="260" name="Rectangle 3"/>
            <p:cNvSpPr/>
            <p:nvPr/>
          </p:nvSpPr>
          <p:spPr>
            <a:xfrm>
              <a:off x="2050920" y="620640"/>
              <a:ext cx="6696360" cy="10936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1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아동과 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최소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월 이상 서비스 경험한 종결사례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실무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소시부터 근무해 사업 진행에 대해 잘 앎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24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센터와 활발하게 자원연계를 위해 협력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071800" y="1856880"/>
              <a:ext cx="6696000" cy="100332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 사업을 충분히 알고 있고 의사소통이 가능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의 실무자가 센터 별로 추천 후 자발적 동의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2050920" y="3213000"/>
            <a:ext cx="6696000" cy="2930400"/>
            <a:chOff x="2050920" y="3213000"/>
            <a:chExt cx="6696000" cy="2930400"/>
          </a:xfrm>
        </p:grpSpPr>
        <p:grpSp>
          <p:nvGrpSpPr>
            <p:cNvPr id="263" name="Group 9"/>
            <p:cNvGrpSpPr/>
            <p:nvPr/>
          </p:nvGrpSpPr>
          <p:grpSpPr>
            <a:xfrm>
              <a:off x="2050920" y="3213000"/>
              <a:ext cx="6696000" cy="2109600"/>
              <a:chOff x="2050920" y="3213000"/>
              <a:chExt cx="6696000" cy="2109600"/>
            </a:xfrm>
          </p:grpSpPr>
          <p:sp>
            <p:nvSpPr>
              <p:cNvPr id="264" name="Rectangle 10"/>
              <p:cNvSpPr/>
              <p:nvPr/>
            </p:nvSpPr>
            <p:spPr>
              <a:xfrm>
                <a:off x="2050920" y="3213000"/>
                <a:ext cx="6696000" cy="5731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buClr>
                    <a:srgbClr val="000000"/>
                  </a:buClr>
                  <a:buFont typeface="굴림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반구조화된 심층면접 조사표 구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by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집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굴림"/>
                    <a:ea typeface="휴먼모음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Rectangle 11"/>
              <p:cNvSpPr/>
              <p:nvPr/>
            </p:nvSpPr>
            <p:spPr>
              <a:xfrm>
                <a:off x="2050920" y="4000680"/>
                <a:ext cx="6696000" cy="13219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2. 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 집단 심층면담 실시 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2007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년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7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월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부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광주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신림센터와 나눔과 열림 연구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명의 연구자가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개의 연구대상만을 인터뷰 함으로써 일관성 있는 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면담이 가능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2050920" y="5474160"/>
              <a:ext cx="6696000" cy="66924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속적 비교분석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constant comparative analysi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0" y="500040"/>
            <a:ext cx="2071800" cy="914400"/>
            <a:chOff x="0" y="500040"/>
            <a:chExt cx="2071800" cy="914400"/>
          </a:xfrm>
        </p:grpSpPr>
        <p:sp>
          <p:nvSpPr>
            <p:cNvPr id="268" name="AutoShape 17"/>
            <p:cNvSpPr/>
            <p:nvPr/>
          </p:nvSpPr>
          <p:spPr>
            <a:xfrm>
              <a:off x="0" y="5000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59360" y="744120"/>
              <a:ext cx="15120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214200" y="714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0" y="3214800"/>
            <a:ext cx="2071800" cy="863640"/>
            <a:chOff x="0" y="3214800"/>
            <a:chExt cx="2071800" cy="863640"/>
          </a:xfrm>
        </p:grpSpPr>
        <p:sp>
          <p:nvSpPr>
            <p:cNvPr id="272" name="AutoShape 23"/>
            <p:cNvSpPr/>
            <p:nvPr/>
          </p:nvSpPr>
          <p:spPr>
            <a:xfrm>
              <a:off x="0" y="32148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459360" y="3445200"/>
              <a:ext cx="1512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1429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692360" y="2427840"/>
            <a:ext cx="7021440" cy="2855160"/>
            <a:chOff x="1692360" y="2427840"/>
            <a:chExt cx="7021440" cy="2855160"/>
          </a:xfrm>
        </p:grpSpPr>
        <p:sp>
          <p:nvSpPr>
            <p:cNvPr id="277" name="AutoShape 3"/>
            <p:cNvSpPr/>
            <p:nvPr/>
          </p:nvSpPr>
          <p:spPr>
            <a:xfrm>
              <a:off x="1692360" y="24454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2786400" y="242784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경제적 어려움으로 지원이 필요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폭력과 가족 성원간의 갈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절한 보호와 양육을 받지 못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습지도를 받지 못해 학습능력이     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떨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9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143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3120" y="231444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315520" y="213372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존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0920" y="5013360"/>
            <a:ext cx="8568720" cy="936720"/>
            <a:chOff x="250920" y="5013360"/>
            <a:chExt cx="8568720" cy="936720"/>
          </a:xfrm>
        </p:grpSpPr>
        <p:sp>
          <p:nvSpPr>
            <p:cNvPr id="151" name=""/>
            <p:cNvSpPr/>
            <p:nvPr/>
          </p:nvSpPr>
          <p:spPr>
            <a:xfrm>
              <a:off x="250920" y="501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37400" y="5099400"/>
              <a:ext cx="1651680" cy="766080"/>
              <a:chOff x="437400" y="5099400"/>
              <a:chExt cx="1651680" cy="76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37400" y="509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720" y="514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120" y="533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315520" y="515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를 통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0920" y="3573360"/>
            <a:ext cx="8568720" cy="936720"/>
            <a:chOff x="250920" y="3573360"/>
            <a:chExt cx="8568720" cy="936720"/>
          </a:xfrm>
        </p:grpSpPr>
        <p:sp>
          <p:nvSpPr>
            <p:cNvPr id="158" name=""/>
            <p:cNvSpPr/>
            <p:nvPr/>
          </p:nvSpPr>
          <p:spPr>
            <a:xfrm>
              <a:off x="250920" y="357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37400" y="3659400"/>
              <a:ext cx="1651680" cy="766080"/>
              <a:chOff x="437400" y="3659400"/>
              <a:chExt cx="1651680" cy="76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37400" y="365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720" y="370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120" y="389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15520" y="371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신규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집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매에 넘어가가지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맨 날 밤에 술을 먹고 와서 접시를 막 유리 접시를 던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싸우고 그래서 아빠랑 떨어지게 됐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은 시간을 잘 활용 못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러니까 공부나 독서 같은 거 잘 안하고 놀거나 컴퓨터만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84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6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692360" y="2802240"/>
            <a:ext cx="7021440" cy="2837520"/>
            <a:chOff x="1692360" y="2802240"/>
            <a:chExt cx="7021440" cy="2837520"/>
          </a:xfrm>
        </p:grpSpPr>
        <p:sp>
          <p:nvSpPr>
            <p:cNvPr id="288" name="AutoShape 3"/>
            <p:cNvSpPr/>
            <p:nvPr/>
          </p:nvSpPr>
          <p:spPr>
            <a:xfrm>
              <a:off x="1692360" y="280224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df"/>
                </a:gs>
                <a:gs pos="100000">
                  <a:srgbClr val="ff9900">
                    <a:alpha val="97254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3565440" y="2934360"/>
              <a:ext cx="3024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형편이 나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성격이 밝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교 성적 올라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친구관계 원만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0" name="AutoShape 5"/>
          <p:cNvSpPr/>
          <p:nvPr/>
        </p:nvSpPr>
        <p:spPr>
          <a:xfrm>
            <a:off x="468360" y="17733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bfe7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여기에 온 다음부터 형편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기분이 좋아져서 장사를 잘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격도 친구한테 따뜻하게 대해주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소심하지 않고 활발해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가 교육에 신경을 많이 쓰시게 되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공부도 더 열심히 하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적상담이랑 친구들 상담이랑 해주시면요 속이 개운해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세상이 달라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봐왔던 것들이 아름답게 보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세상이 달라 보이니까 동생한테 잘 해줘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95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714680" y="2484000"/>
            <a:ext cx="7021440" cy="2837520"/>
            <a:chOff x="1714680" y="2484000"/>
            <a:chExt cx="7021440" cy="2837520"/>
          </a:xfrm>
        </p:grpSpPr>
        <p:sp>
          <p:nvSpPr>
            <p:cNvPr id="301" name="AutoShape 3"/>
            <p:cNvSpPr/>
            <p:nvPr/>
          </p:nvSpPr>
          <p:spPr>
            <a:xfrm>
              <a:off x="1714680" y="24840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Text Box 4"/>
            <p:cNvSpPr/>
            <p:nvPr/>
          </p:nvSpPr>
          <p:spPr>
            <a:xfrm>
              <a:off x="2857680" y="264276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을 통한 다양한 교육과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물질적인 지원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 캠프  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신의 강점을 발견해 주고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인 지지와 칭찬을 해주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실무자와의 관계 형성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용품도 지원해 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만들기랑 한자랑 하구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놀러도 가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야채 같은 것도 주셔서 좋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이 다 같이 가족캠프에 간거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서 아빠랑 나랑 친해지게 해주고 아빠도 거기 가서 남자 어르신들이랑 친해지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언니들이나 동생들 내 또래 아이들과 친해질 수 있어서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이요 맨날 나쁜 말 안하고 칭찬만 해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칭찬을 많이 해주니까 더 착해지고 싶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더 많이 받고 싶으니까 자꾸 착해지려고 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서로 싸우는 것보다 자신이 하고 싶은 의견을 말하면서 내가 이렇게 하고 싶다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또 저도 내가 이렇게 하고 싶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렇게 이야기해서 서로 마음을 맞게 할 수 있도록 도와 주시는거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0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43040" y="2305080"/>
            <a:ext cx="7021440" cy="2837520"/>
            <a:chOff x="1643040" y="2305080"/>
            <a:chExt cx="7021440" cy="2837520"/>
          </a:xfrm>
        </p:grpSpPr>
        <p:sp>
          <p:nvSpPr>
            <p:cNvPr id="314" name="AutoShape 3"/>
            <p:cNvSpPr/>
            <p:nvPr/>
          </p:nvSpPr>
          <p:spPr>
            <a:xfrm>
              <a:off x="1643040" y="2305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2786040" y="2428200"/>
              <a:ext cx="527364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직장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 등 경제적인 어려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 등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교육문제로 고통 받음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한부모 가정과 조손 세대가 많아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 양육 스트레스가 많음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428760" y="178596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같은 경우는 일을 하지 못하니깐 학원도 못 보내는 입장이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갈 곳도 없는 입장이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외손주를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년을 길렀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 아이들을 데려다 주고 가고 없으니깐 내가 키워야 하는데 학교를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교육에 대한 힘겨움이 있었죠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 없이 자라다 보니 안 좋은 소리 들으면 사건사고들이 많아서 이렇게 되고 몸도 안 좋고 하니 스트레스가 애들한테도 가고 하니깐 애들한테도 화를 많이 내고 심했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21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1763640" y="2285280"/>
            <a:ext cx="7021440" cy="3165480"/>
            <a:chOff x="1763640" y="2285280"/>
            <a:chExt cx="7021440" cy="3165480"/>
          </a:xfrm>
        </p:grpSpPr>
        <p:sp>
          <p:nvSpPr>
            <p:cNvPr id="327" name="AutoShape 3"/>
            <p:cNvSpPr/>
            <p:nvPr/>
          </p:nvSpPr>
          <p:spPr>
            <a:xfrm>
              <a:off x="1763640" y="245376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2714760" y="2285280"/>
              <a:ext cx="548784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지고 양육태도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으로 바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친구와 잘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어울리게 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학습능력이 향상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희망이 생김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둘이 많이 싸우고 그랬는데 센터 다니면서 공부도 좀 앉아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재미를 붙여서 학교 갔다 와서 둘이 먼저 센터 가서 저녁까지 먹고 오니깐 제가 믿음이 생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쁜 아이들 안 만날 것 같고 해서 제가 노점상이라도 하고 그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글도 못 읽고 했었는데 한글도 잘 읽고 자신감도 생기고 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조금만 해도 울고 했는데 많이 활발해지고 똑똑해 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너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제가 아이를 많이 닦달했었는데 내가 여유를 찾으면서 아이와 나도 여유가 많이 생긴 것이 센터를 다니면서 선생님들이 반겨주시고 그런 대접을 받으면서 아이가 자기 스스로가 소중한 존재라는 것을 느낄 수 있는 계기가 된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3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1763640" y="2143080"/>
            <a:ext cx="7021440" cy="3021840"/>
            <a:chOff x="1763640" y="2143080"/>
            <a:chExt cx="7021440" cy="3021840"/>
          </a:xfrm>
        </p:grpSpPr>
        <p:sp>
          <p:nvSpPr>
            <p:cNvPr id="340" name="AutoShape 3"/>
            <p:cNvSpPr/>
            <p:nvPr/>
          </p:nvSpPr>
          <p:spPr>
            <a:xfrm>
              <a:off x="1763640" y="23274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2786040" y="2143080"/>
              <a:ext cx="5546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연계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환경개선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캠프 등 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다양한  물질적 지원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나의 감정과 사정을 고려하는 실무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를  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통해 마음의 문을 열고 살아갈 힘을 얻음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강점을 지지하는 실무자를 통해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에 대한 시각이 긍정적으로 바뀜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44640"/>
            <a:ext cx="6985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5%), 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 취약층 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83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 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.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중 장애유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2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제적으로 힘들어서 못 갔는데 학원에서 공부하다 보니깐 많이 좋아졌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정적인 부분도 가족들이 놀러 가거나 문화생활을 아이들에게 해 줄 수 있어서 좋았죠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를 이용하면서 아무래도 심적으로 아직은 세상이 살만한 곳이구나 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힘이 되는 구나 하는 생각이 들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들의 사정을 고려하고 생각해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내 감정까지 생각해 주는 따뜻한 배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우리 아이는 성적이 안 좋아서 제가 바라보는 것과 선생님이 바라보시는 것과는 다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도 잘 받아주시고 좋은 점을 찾아주시고 내가 모르는 부분을 찾아주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ㅇㅇ 한테 이런 면이 있었구나 싶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들 앞에서는 말을 잘 못하는데 한번 해보려고 하는 것이 선생님이 많이 도움이 되었구나 라는 생각이 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4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54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2916360" y="2205000"/>
              <a:ext cx="527364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적이 오르고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생활이 안정되면서 가족관계가 원만해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던 사람에서 다른 이웃을 돕는 사람으로 변하고 비공식 자원망을 형성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내 기관 네트워크의 구심적 역할을 함으로써 통합적 서비스 제공이 가능해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6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동이 보호가 되고 안정이 되니까 보호자들의 일이 하나씩 풀어지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간의 관계에 있어서도 서로 힘이 드니까 짜증내거나 화를 내거나 싸우는 일이 있었는데 그것들이 줄어들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도움을 받았지만 나도 나눌 수 있는 사람이 되었다는 것과 지역 안에서 별거는 아니지만 내가 관심을 가져주면 이 집도 잘 살 수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잘 살 수 있고 같이 좋은 동네가 될 수 있다라는 생각이 조금 조금씩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교랑 복지관이랑 동사무소랑 사례회의가 잘못되면 굉장히 형식적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자기들 말만하고 끝나게 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장 큰 변화는 사례관리팀이 생겨서 아이나 가정을 총체적으로 봐주고 조정할 수 있는 그런 부분이 생긴 거예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62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4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63640" y="2152800"/>
            <a:ext cx="7021440" cy="2837520"/>
            <a:chOff x="1763640" y="2152800"/>
            <a:chExt cx="7021440" cy="2837520"/>
          </a:xfrm>
        </p:grpSpPr>
        <p:sp>
          <p:nvSpPr>
            <p:cNvPr id="368" name="AutoShape 3"/>
            <p:cNvSpPr/>
            <p:nvPr/>
          </p:nvSpPr>
          <p:spPr>
            <a:xfrm>
              <a:off x="1763640" y="21528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714760" y="2213640"/>
              <a:ext cx="578628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관점 접근을 하자 내담자들 끼리도 서로의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을 찾아주고 실제 생활에서 활용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욕구에 기초한 서비스를 제공하자 내담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극적으로 참여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개입의 초점을 두고 부모가 자녀에게 관심을 갖게 지지하자 가족관계에 변화가 나타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0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능하면 그분들이 갖고 있는 강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긍정적인 부분들을 볼 수 있도록 저희도 애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니 스스로도 그런 부분들을 보려고 서로서로 이거 잘해 뭐 잘해 그렇게 하다 보니까 더 강화가 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 아이들이나 가족들의 욕구가 무엇인지에 따라서 거기에 맞춰서 접근을 하다 보니까 본인들이 가장 취약한 부분에서 뭐가 해보자 하는 게 같이 동의 되었을 때 거기서 나타나는 시너지 효과가 굉장히 크다는 생각이 들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하고 같이 저 혼자 이거 해보세요 했던 것이 아니라 아이 상황에 대해 한번 쭉 같이 얘기를 해보고 하는 과정에서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께서 그런 경험을 하면서 직접 학원체크를 같은 거나 학교 관리도 하고 밑에 동생을 저희가 지원을 안 하더라고 어머님이 직접 아이 누나했던 경험 그대로 하면서 방법을 만들어가고 자신감을 가지게 되는 것 같아요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76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8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82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2916360" y="2205000"/>
              <a:ext cx="5273640" cy="23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성적이 향상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부모로서 역할을 하기 시작하고 가정이 안정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았던 내담자들이 다른 이웃들을 돕기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센터가 구심점이 되어 지역자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협력함으로써 지역아동의 삶의 질이 향상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4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들이 여기서 공부하고 학교 가서도 공부하는데 와서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 어제 공부한 것이 오늘 학교에서 시험에 나와서 잘 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’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자신 있게 말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버지께서 양육을 열심히 하려고 하지만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는 열심히 하고 싶어도 안되기 때문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는 생각으로 대인기피증이 있으셨지만 지금은 열심히 하려고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 키우는 게 더 수월해졌고 그래서 일에 좀더 열중하실 수 있으셨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는 몰라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도와주세요 이런 게 시발점이었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했어요 이렇게 자랑하다가 내가 받았으니깐 남들한테 줄줄 아는 마음까지 생기게 되고 창작활동 하나도 남한테 도와주고 뭔가 해 줄 수 있는 마음까지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가 아동들의 질을 향상시켰다라고 말하고 싶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이 아동들에게 관심을 가지게 되었다는 거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사회가 함께 만들어야겠다고 느꼈고 지역 전체가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제는 아동사업에 힘을 쓰자 우리가 돕겠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말씀 하셨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90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785960" y="2335320"/>
            <a:ext cx="7021440" cy="2873160"/>
            <a:chOff x="1785960" y="2335320"/>
            <a:chExt cx="7021440" cy="2873160"/>
          </a:xfrm>
        </p:grpSpPr>
        <p:sp>
          <p:nvSpPr>
            <p:cNvPr id="396" name="AutoShape 3"/>
            <p:cNvSpPr/>
            <p:nvPr/>
          </p:nvSpPr>
          <p:spPr>
            <a:xfrm>
              <a:off x="1785960" y="233532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2571840" y="2428560"/>
              <a:ext cx="568944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초점을 두는 동시에 가족 족 중심의 서비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를 제공한 것이 가족전체의 변화를 가능하게 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스스로 문제를 해결 할 수 있는 기회를    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제공함으로써 내담자의 역량이 강화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연계자원을 존중하고 필요한 정보를 먼저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개방한 것이 진정한 협력을 가능하게 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8" name="AutoShape 5"/>
          <p:cNvSpPr/>
          <p:nvPr/>
        </p:nvSpPr>
        <p:spPr>
          <a:xfrm>
            <a:off x="285840" y="15717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부모하고 같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하고 같이 갔다는 것이 굉장히 의미가 있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다른 때 같으면 원래 아이들만 즐겁게 해주고 그러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이제 부모랑 같이 이렇게 공유하고 있었던 것이 그게 되게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포기할 수도 있고 그런데 그 옆에서 아빠를 격려하고 하면서 아빠가 역할을 할 수 있게 그렇게 지원을 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런 운영일지 같은 것이나 저희가 필요하고 그 아이가 어떤 정도로 진행되고 있는지 그런 궁금한 게 있으면 사실 내부적인 것이기 때문에 오픈 하지 않는 경우가 많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그것들도 아주 수월하게 오픈 해주시고 그러니까 그런 부분에 있어서 많이 신뢰성을 갖고 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40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29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410" name="Group 126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411" name="Group 5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412" name="Oval 6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Oval 7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93e9"/>
                    </a:gs>
                    <a:gs pos="100000">
                      <a:srgbClr val="6164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Oval 8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Oval 9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2f31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Oval 10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2e67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17" name="Rectangle 11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8" name="Group 128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419" name="Group 13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420" name="Oval 14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26f5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Oval 15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ada3"/>
                    </a:gs>
                    <a:gs pos="100000">
                      <a:srgbClr val="d26f5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Oval 16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3c33"/>
                    </a:gs>
                    <a:gs pos="50000">
                      <a:srgbClr val="d26f5e"/>
                    </a:gs>
                    <a:gs pos="100000">
                      <a:srgbClr val="723c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3" name="Oval 17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6636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4" name="Oval 18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332c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25" name="Rectangle 19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Group 127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427" name="Group 21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428" name="Oval 22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Oval 23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b94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0" name="Oval 24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1" name="Oval 25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Oval 26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33" name="Rectangle 27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4" name="Group 46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435" name="Oval 29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1afb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Oval 30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c5f64"/>
                  </a:gs>
                  <a:gs pos="50000">
                    <a:srgbClr val="51afb9"/>
                  </a:gs>
                  <a:gs pos="100000">
                    <a:srgbClr val="2c5f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37" name="Group 31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438" name="Oval 32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ad0"/>
                    </a:gs>
                    <a:gs pos="100000">
                      <a:srgbClr val="51afb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Oval 33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275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40" name="Oval 34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156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Rectangle 35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42" name="Group 125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443" name="Rectangle 39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44" name="Group 121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445" name="Oval 122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6" name="Oval 123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7" name="Rectangle 124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욕구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회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모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art C. </a:t>
            </a:r>
            <a:r>
              <a:rPr b="0" lang="ko-KR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적 및 운영평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1"/>
          <p:cNvSpPr/>
          <p:nvPr/>
        </p:nvSpPr>
        <p:spPr>
          <a:xfrm>
            <a:off x="755640" y="1989000"/>
            <a:ext cx="345600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센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개소 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3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명의 실무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력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교육체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근무환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직무스트레스와 만족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재정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홍보 및 사례관리 실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적 특성과 여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설문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유형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밀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기술통계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 설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1197000"/>
            <a:ext cx="345780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양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1197000"/>
            <a:ext cx="345744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4932360" y="1989000"/>
            <a:ext cx="352908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아동과 가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연계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외부 전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에 대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의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포커스 그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속적 비교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6"/>
          <p:cNvGrpSpPr/>
          <p:nvPr/>
        </p:nvGrpSpPr>
        <p:grpSpPr>
          <a:xfrm>
            <a:off x="0" y="1052640"/>
            <a:ext cx="2071800" cy="914400"/>
            <a:chOff x="0" y="1052640"/>
            <a:chExt cx="2071800" cy="914400"/>
          </a:xfrm>
        </p:grpSpPr>
        <p:sp>
          <p:nvSpPr>
            <p:cNvPr id="457" name="AutoShape 17"/>
            <p:cNvSpPr/>
            <p:nvPr/>
          </p:nvSpPr>
          <p:spPr>
            <a:xfrm>
              <a:off x="0" y="10526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457920" y="129672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Text Box 20"/>
          <p:cNvSpPr/>
          <p:nvPr/>
        </p:nvSpPr>
        <p:spPr>
          <a:xfrm>
            <a:off x="179280" y="1268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력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0" name="Group 22"/>
          <p:cNvGrpSpPr/>
          <p:nvPr/>
        </p:nvGrpSpPr>
        <p:grpSpPr>
          <a:xfrm>
            <a:off x="0" y="3429000"/>
            <a:ext cx="2071800" cy="863640"/>
            <a:chOff x="0" y="3429000"/>
            <a:chExt cx="2071800" cy="863640"/>
          </a:xfrm>
        </p:grpSpPr>
        <p:sp>
          <p:nvSpPr>
            <p:cNvPr id="461" name="AutoShape 23"/>
            <p:cNvSpPr/>
            <p:nvPr/>
          </p:nvSpPr>
          <p:spPr>
            <a:xfrm>
              <a:off x="0" y="34290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457920" y="365940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3" name="Text Box 21"/>
          <p:cNvSpPr/>
          <p:nvPr/>
        </p:nvSpPr>
        <p:spPr>
          <a:xfrm>
            <a:off x="179280" y="3573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교육훈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인력현황과 교육체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회복지 실무경력   희망센터 근무기간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36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7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4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2124000" y="3500280"/>
            <a:ext cx="6696000" cy="2016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내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-3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9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1-3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79280" y="1197000"/>
            <a:ext cx="1800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로계약과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평균 사례 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22"/>
          <p:cNvGrpSpPr/>
          <p:nvPr/>
        </p:nvGrpSpPr>
        <p:grpSpPr>
          <a:xfrm>
            <a:off x="0" y="3573360"/>
            <a:ext cx="2071800" cy="863640"/>
            <a:chOff x="0" y="3573360"/>
            <a:chExt cx="2071800" cy="863640"/>
          </a:xfrm>
        </p:grpSpPr>
        <p:sp>
          <p:nvSpPr>
            <p:cNvPr id="473" name="AutoShape 23"/>
            <p:cNvSpPr/>
            <p:nvPr/>
          </p:nvSpPr>
          <p:spPr>
            <a:xfrm>
              <a:off x="0" y="357336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457920" y="380376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5" name="Text Box 21"/>
          <p:cNvSpPr/>
          <p:nvPr/>
        </p:nvSpPr>
        <p:spPr>
          <a:xfrm>
            <a:off x="179280" y="3716280"/>
            <a:ext cx="187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초과근무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보상체계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무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정규직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입사례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한 달 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28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초과근무 시간   보상여부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주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있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3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10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7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스트레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 스트레스와 만족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5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486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8" name="Text Box 20"/>
          <p:cNvSpPr/>
          <p:nvPr/>
        </p:nvSpPr>
        <p:spPr>
          <a:xfrm>
            <a:off x="179280" y="3860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2124000" y="105264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1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3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4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2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6"/>
          <p:cNvGrpSpPr/>
          <p:nvPr/>
        </p:nvGrpSpPr>
        <p:grpSpPr>
          <a:xfrm>
            <a:off x="0" y="1052640"/>
            <a:ext cx="2050920" cy="1152000"/>
            <a:chOff x="0" y="1052640"/>
            <a:chExt cx="2050920" cy="1152000"/>
          </a:xfrm>
        </p:grpSpPr>
        <p:sp>
          <p:nvSpPr>
            <p:cNvPr id="493" name="AutoShape 17"/>
            <p:cNvSpPr/>
            <p:nvPr/>
          </p:nvSpPr>
          <p:spPr>
            <a:xfrm>
              <a:off x="0" y="1052640"/>
              <a:ext cx="2050920" cy="11520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453240" y="1360080"/>
              <a:ext cx="1498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5" name="Text Box 20"/>
          <p:cNvSpPr/>
          <p:nvPr/>
        </p:nvSpPr>
        <p:spPr>
          <a:xfrm>
            <a:off x="179280" y="1052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위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원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Group 16"/>
          <p:cNvGrpSpPr/>
          <p:nvPr/>
        </p:nvGrpSpPr>
        <p:grpSpPr>
          <a:xfrm>
            <a:off x="0" y="3357720"/>
            <a:ext cx="2124000" cy="1223280"/>
            <a:chOff x="0" y="3357720"/>
            <a:chExt cx="2124000" cy="1223280"/>
          </a:xfrm>
        </p:grpSpPr>
        <p:sp>
          <p:nvSpPr>
            <p:cNvPr id="499" name="AutoShape 17"/>
            <p:cNvSpPr/>
            <p:nvPr/>
          </p:nvSpPr>
          <p:spPr>
            <a:xfrm>
              <a:off x="0" y="3357720"/>
              <a:ext cx="2124000" cy="122328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469440" y="36842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1" name="Text Box 20"/>
          <p:cNvSpPr/>
          <p:nvPr/>
        </p:nvSpPr>
        <p:spPr>
          <a:xfrm>
            <a:off x="25092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항목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예산편성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2124000" y="3429000"/>
            <a:ext cx="6696000" cy="2664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인건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운영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기타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39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3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6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31"/>
          <p:cNvSpPr/>
          <p:nvPr/>
        </p:nvSpPr>
        <p:spPr>
          <a:xfrm>
            <a:off x="2050920" y="981000"/>
            <a:ext cx="6696360" cy="2160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획                      집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센터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지원금    자부담금     지원금   자부담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11,500     268    10,581  3,23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2,300   1,403    11,716   9,13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11,833     973     11,234   3,95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05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굴사례 비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10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2" name="Text Box 20"/>
          <p:cNvSpPr/>
          <p:nvPr/>
        </p:nvSpPr>
        <p:spPr>
          <a:xfrm>
            <a:off x="17928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종결사례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Outreach 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비중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  서비스제공 경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2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5.7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40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화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5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56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2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이용자 실무자 이용자와 외부조건 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원해서 판단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합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7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8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4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9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2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9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16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6"/>
          <p:cNvGrpSpPr/>
          <p:nvPr/>
        </p:nvGrpSpPr>
        <p:grpSpPr>
          <a:xfrm>
            <a:off x="0" y="836640"/>
            <a:ext cx="2050920" cy="914400"/>
            <a:chOff x="0" y="836640"/>
            <a:chExt cx="2050920" cy="914400"/>
          </a:xfrm>
        </p:grpSpPr>
        <p:sp>
          <p:nvSpPr>
            <p:cNvPr id="517" name="AutoShape 17"/>
            <p:cNvSpPr/>
            <p:nvPr/>
          </p:nvSpPr>
          <p:spPr>
            <a:xfrm>
              <a:off x="0" y="836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3240" y="1080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179280" y="98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접수사례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원단 자료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례관리 실적 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2007. 12.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현재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557360"/>
          <a:ext cx="8713800" cy="4340160"/>
        </p:xfrm>
        <a:graphic>
          <a:graphicData uri="http://schemas.openxmlformats.org/drawingml/2006/table">
            <a:tbl>
              <a:tblPr/>
              <a:tblGrid>
                <a:gridCol w="885600"/>
                <a:gridCol w="738360"/>
                <a:gridCol w="706320"/>
                <a:gridCol w="847800"/>
                <a:gridCol w="846000"/>
                <a:gridCol w="657360"/>
                <a:gridCol w="822240"/>
                <a:gridCol w="636840"/>
                <a:gridCol w="915840"/>
                <a:gridCol w="635040"/>
                <a:gridCol w="1022400"/>
              </a:tblGrid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 사례 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접수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목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 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평균 개입기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밀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6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2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5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분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6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58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농어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3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1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1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4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1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2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17928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이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32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4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소 후 현재까지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신규직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채용시 어려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7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에 대한 이해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격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례관리 경험부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3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모기관 행사지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비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식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매우 높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9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2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3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1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정공무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3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44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연계자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센터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의 인식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매우 협조적이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3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95280" y="4365720"/>
            <a:ext cx="849636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 아동과 가족 복지서비스 연계활동 활성화에 기여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내 아동과 가족의 복지를 증진시키는 데 공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는 업무수행을 위해 자신의 능력을 잘 발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과 다른 고유한 특성을 가지고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른 기관의 실무자들과 다른 고유한 특성이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2.98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서비스 일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27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의뢰경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외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7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민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3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교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직접서비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연계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250920" y="1125360"/>
            <a:ext cx="8642160" cy="4967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욕구에 따른 시기적으로 타당한 슈퍼비젼과 교육훈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통적인 실천원칙과 강점관점 실천원칙 사이에서 혼란을 경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역적 특성들을 아우를 수 있도록 강점관점과 실천모델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통일되게 그리고 지속적으로 교육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․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훈련하는 과정이 체계적으로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 지역 실무자들의 근무환경과 지역적 여건이 상대적으로 비우호적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지 자원을 제공하는 것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향후 본 센터의 사업의 목적과 내용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실무자들의 업무수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식에 있어 사업이 지향하는 취지와 실천방향이 더욱 분명히 드러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수 있는 방안을 강구해야 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5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9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/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불만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역과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이용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0" y="3284640"/>
            <a:ext cx="2124000" cy="914400"/>
            <a:chOff x="0" y="3284640"/>
            <a:chExt cx="2124000" cy="914400"/>
          </a:xfrm>
        </p:grpSpPr>
        <p:sp>
          <p:nvSpPr>
            <p:cNvPr id="562" name="AutoShape 17"/>
            <p:cNvSpPr/>
            <p:nvPr/>
          </p:nvSpPr>
          <p:spPr>
            <a:xfrm>
              <a:off x="0" y="328464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69440" y="352872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4" name="Text Box 20"/>
          <p:cNvSpPr/>
          <p:nvPr/>
        </p:nvSpPr>
        <p:spPr>
          <a:xfrm>
            <a:off x="179280" y="35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직접 내방하여 자신들의 욕구에 부합한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들과 다양한 문화체험을 한 후 마음에 여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삶에 대한 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과 가족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가 긍정적으로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폭넓은 지원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빠르고 정확한 업무 처리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324000" y="4365720"/>
            <a:ext cx="864072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욕구를 가진 청소년에게도 필요한 서비스가 지속적으로 제공되기를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녀와 함께 하는 가족캠프 프로그램과 건강 관련 서비스에 대한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으로 운영되는 우리아이 희망네트워크 지원사업의 종결을 우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지속적으로 운영되고 좀 더 많은 사람이 이용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에 좀 더 널리 알려지길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3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74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Text Box 20"/>
          <p:cNvSpPr/>
          <p:nvPr/>
        </p:nvSpPr>
        <p:spPr>
          <a:xfrm>
            <a:off x="179280" y="393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아동보호에 대한 지역사회의 관심증대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중심으로의 관점의 확대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관련 전문가들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함께 모여 공동의 노력을 경주할 수 있는 연대의 장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마련하는 데 중추적인 역할을 담당하였다고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충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원거리 이동을 지원할 수 있는 차량 또는 여비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대상 인원과 제공시간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부모와 아동을 대상으로 하는 교육프로그램의 보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후관리에 대한 지역연계 활동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업수행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5" name="Group 16"/>
          <p:cNvGrpSpPr/>
          <p:nvPr/>
        </p:nvGrpSpPr>
        <p:grpSpPr>
          <a:xfrm>
            <a:off x="0" y="2565360"/>
            <a:ext cx="2124000" cy="914400"/>
            <a:chOff x="0" y="2565360"/>
            <a:chExt cx="2124000" cy="914400"/>
          </a:xfrm>
        </p:grpSpPr>
        <p:sp>
          <p:nvSpPr>
            <p:cNvPr id="586" name="AutoShape 17"/>
            <p:cNvSpPr/>
            <p:nvPr/>
          </p:nvSpPr>
          <p:spPr>
            <a:xfrm>
              <a:off x="0" y="256536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18"/>
            <p:cNvSpPr/>
            <p:nvPr/>
          </p:nvSpPr>
          <p:spPr>
            <a:xfrm>
              <a:off x="469440" y="28094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Text Box 20"/>
          <p:cNvSpPr/>
          <p:nvPr/>
        </p:nvSpPr>
        <p:spPr>
          <a:xfrm>
            <a:off x="324000" y="28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Rectangle 31"/>
          <p:cNvSpPr/>
          <p:nvPr/>
        </p:nvSpPr>
        <p:spPr>
          <a:xfrm>
            <a:off x="2050920" y="1052640"/>
            <a:ext cx="6696360" cy="1439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특성과 사례관리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모법인의 형태와 지원에 따른 유리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불리한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자원과의 연계활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31"/>
          <p:cNvSpPr/>
          <p:nvPr/>
        </p:nvSpPr>
        <p:spPr>
          <a:xfrm>
            <a:off x="324000" y="3573360"/>
            <a:ext cx="8496000" cy="2592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 초기 본 사업의 방향과 비전을 공유할 수 있는 장이 마련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의 특성상 고용에 대한 불안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 계획과 집행에 있어 융통성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 일관된 슈퍼비전이 가능하도록 제도적 보완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 이용자를 직접 만나는 사례개입 외에 행정 업무 지원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평가를 위한 전산화 시스템의 안정적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계량적 평가와 질적 부분에 대한 평가도 포함되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업무과중의 부담을 해소하여 실무자들의 소진을 방지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93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외부 전문가 집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179280" y="386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ㅓ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395280" y="2060640"/>
            <a:ext cx="8280360" cy="4176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복지서비스의 양적 확대와 지역 간 불균형 해소는 매우 중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이므로 민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이 함께 풀어나가야 할 것이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프로그램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극적인 적용과 효과성 비교분석은 민간영역에서 담당하기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절한 역할이라 제시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한 아동복지 서비스들이 다양한 공급주체에 의해 제공되는 현상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반드시 중복의 문제로 접근할 필요는 없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 관련자들이 경쟁관계가 아닌 협력관계로 전환하여 각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역할을 강화시켜 줄 수 있는 환경구축이 필요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현재 진행되는 다양한 사업들의 모형 정립과 이들의 협력관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공동체로 형성되어 가는 과정에 대한 연구의 필요성이 제기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31"/>
          <p:cNvSpPr/>
          <p:nvPr/>
        </p:nvSpPr>
        <p:spPr>
          <a:xfrm>
            <a:off x="179280" y="981000"/>
            <a:ext cx="8713800" cy="5112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의 지원규모와 지속성의 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에 대한 모법인과 실무자들의 의지를 평가하는 항목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고용의 안정성 확보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집행의 융통성 확대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도 일관된 방향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슈퍼비전과 네트워크에 대한 교육 및 훈련의 제공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확충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산처리를 위한 시스템의 보완과 과업수행의 질적인 부분을 평가할 수 있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안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일한 서비스 대상을 두고 기관 간의 경쟁을 부추기는 실적위주의 평가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양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 형성을 위한 노력과 활동이 높이 평가될 수 있는 체계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제 현장 사업의 모형을 정리하는 작업과 유사사업 주체들 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가 장기적으로 발전하여 공동체로 성장해 가는 과정에 대한 연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607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640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2089080"/>
            <a:ext cx="7559640" cy="19162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C. </a:t>
            </a:r>
            <a:r>
              <a:rPr b="0" lang="ko-KR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서비스 연계활동과 네트워크 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24000" y="1989000"/>
            <a:ext cx="8495640" cy="936720"/>
            <a:chOff x="324000" y="1989000"/>
            <a:chExt cx="8495640" cy="936720"/>
          </a:xfrm>
        </p:grpSpPr>
        <p:sp>
          <p:nvSpPr>
            <p:cNvPr id="649" name=""/>
            <p:cNvSpPr/>
            <p:nvPr/>
          </p:nvSpPr>
          <p:spPr>
            <a:xfrm>
              <a:off x="324000" y="1989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9040" y="2075040"/>
              <a:ext cx="1637280" cy="766080"/>
              <a:chOff x="509040" y="2075040"/>
              <a:chExt cx="1637280" cy="766080"/>
            </a:xfrm>
          </p:grpSpPr>
          <p:sp>
            <p:nvSpPr>
              <p:cNvPr id="651" name=""/>
              <p:cNvSpPr/>
              <p:nvPr/>
            </p:nvSpPr>
            <p:spPr>
              <a:xfrm>
                <a:off x="509040" y="2075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1280" y="2124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4720" y="2368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370960" y="2133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국 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2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개 센터의 서비스 연계 활동을 어떠한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 유형별 연계 현황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55640" y="404640"/>
            <a:ext cx="2087640" cy="110196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4000" y="3213000"/>
            <a:ext cx="8495640" cy="936720"/>
            <a:chOff x="324000" y="3213000"/>
            <a:chExt cx="8495640" cy="936720"/>
          </a:xfrm>
        </p:grpSpPr>
        <p:sp>
          <p:nvSpPr>
            <p:cNvPr id="657" name=""/>
            <p:cNvSpPr/>
            <p:nvPr/>
          </p:nvSpPr>
          <p:spPr>
            <a:xfrm>
              <a:off x="324000" y="3213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09040" y="3299040"/>
              <a:ext cx="1637280" cy="766080"/>
              <a:chOff x="509040" y="3299040"/>
              <a:chExt cx="1637280" cy="766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09040" y="3299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280" y="3348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3592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370960" y="3357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 연계 활동 영향요인과 효과는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5280" y="4724280"/>
            <a:ext cx="8496000" cy="936720"/>
            <a:chOff x="395280" y="4724280"/>
            <a:chExt cx="8496000" cy="936720"/>
          </a:xfrm>
        </p:grpSpPr>
        <p:sp>
          <p:nvSpPr>
            <p:cNvPr id="664" name=""/>
            <p:cNvSpPr/>
            <p:nvPr/>
          </p:nvSpPr>
          <p:spPr>
            <a:xfrm>
              <a:off x="395280" y="4724280"/>
              <a:ext cx="849600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0320" y="4810320"/>
              <a:ext cx="1637640" cy="766080"/>
              <a:chOff x="580320" y="4810320"/>
              <a:chExt cx="1637640" cy="766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80320" y="4810320"/>
                <a:ext cx="163764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2560" y="485964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6360" y="510408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42240" y="486900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희망네트워크 지원사업의 네트워크 특성은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67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50920" y="3284640"/>
            <a:ext cx="8569080" cy="1152360"/>
            <a:chOff x="250920" y="3284640"/>
            <a:chExt cx="8569080" cy="1152360"/>
          </a:xfrm>
        </p:grpSpPr>
        <p:sp>
          <p:nvSpPr>
            <p:cNvPr id="679" name=""/>
            <p:cNvSpPr/>
            <p:nvPr/>
          </p:nvSpPr>
          <p:spPr>
            <a:xfrm>
              <a:off x="250920" y="3284640"/>
              <a:ext cx="8569080" cy="1152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68360" y="3370320"/>
              <a:ext cx="1620360" cy="922320"/>
              <a:chOff x="468360" y="3370320"/>
              <a:chExt cx="1620360" cy="9223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8360" y="3370320"/>
                <a:ext cx="1620360" cy="922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9520" y="3429720"/>
                <a:ext cx="807840" cy="461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62920" y="37238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16240" y="3429000"/>
              <a:ext cx="629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-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자원연계활동조사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2 –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조사표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- 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 인터뷰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50920" y="4724280"/>
            <a:ext cx="8568720" cy="936720"/>
            <a:chOff x="250920" y="4724280"/>
            <a:chExt cx="8568720" cy="936720"/>
          </a:xfrm>
        </p:grpSpPr>
        <p:sp>
          <p:nvSpPr>
            <p:cNvPr id="687" name=""/>
            <p:cNvSpPr/>
            <p:nvPr/>
          </p:nvSpPr>
          <p:spPr>
            <a:xfrm>
              <a:off x="250920" y="472428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37400" y="4810320"/>
              <a:ext cx="1651680" cy="766080"/>
              <a:chOff x="437400" y="4810320"/>
              <a:chExt cx="1651680" cy="766080"/>
            </a:xfrm>
          </p:grpSpPr>
          <p:sp>
            <p:nvSpPr>
              <p:cNvPr id="689" name=""/>
              <p:cNvSpPr/>
              <p:nvPr/>
            </p:nvSpPr>
            <p:spPr>
              <a:xfrm>
                <a:off x="437400" y="481032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" y="485964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7440" y="5104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315520" y="486900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기술통계 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spss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통계 패키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도움정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1/4.0=7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다양한 서비스가 도움이 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을 잘 돌보기 위한 정보 획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도움이 되는 모임과 관계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일반적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1916280"/>
            <a:ext cx="8280360" cy="374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총량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7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7.1.1~6.30 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센터 연계자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신규 비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1.8%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서비스 영역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5.5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발적 모임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8.2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보건 의료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.7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자원 성격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비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2.9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공식 부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6.1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부문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2276640"/>
            <a:ext cx="8136000" cy="3385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54.2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2.0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발달 문화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5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 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본생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7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의체 구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홍보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원 개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방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2.7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7.1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5.0%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물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8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이용자 의뢰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동 사업 기획 수행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2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질적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9640" y="1916280"/>
          <a:ext cx="8137800" cy="4268520"/>
        </p:xfrm>
        <a:graphic>
          <a:graphicData uri="http://schemas.openxmlformats.org/drawingml/2006/table">
            <a:tbl>
              <a:tblPr/>
              <a:tblGrid>
                <a:gridCol w="1584360"/>
                <a:gridCol w="1297080"/>
                <a:gridCol w="1727280"/>
                <a:gridCol w="1873080"/>
                <a:gridCol w="1656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협력 수준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성과만족도 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주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공공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2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공식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5867280" y="155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1~5/  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점 척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(n= 713-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3128760" y="4762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지역 유형별 연계 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55640" y="1341360"/>
            <a:ext cx="8064360" cy="475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밀집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양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북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상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라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존자원 활용도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8.4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8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7.9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분산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남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능곡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랑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활동 패턴과 유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 중 협의체 구축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5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.7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농어촌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항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규 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80.9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1.8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율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5.1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54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집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1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낮음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밀집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분산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어촌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560520" y="1773360"/>
            <a:ext cx="7993080" cy="410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1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최종분석 활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 연계자원 일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9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6.7%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3.3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남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1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여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68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 연령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.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.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이 속한 기관 유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8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학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3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병 의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8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조사대상자 일반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484280"/>
            <a:ext cx="8136000" cy="4535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가능하게 한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0~1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확한 연계목표 및 명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8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의 적극성과 역량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6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6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지속시키는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실무자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의 장애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연계 소극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시스템 부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 과중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과중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3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557360"/>
            <a:ext cx="8497800" cy="4681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2060640"/>
          <a:ext cx="8280360" cy="1836720"/>
        </p:xfrm>
        <a:graphic>
          <a:graphicData uri="http://schemas.openxmlformats.org/drawingml/2006/table">
            <a:tbl>
              <a:tblPr/>
              <a:tblGrid>
                <a:gridCol w="2427120"/>
                <a:gridCol w="381240"/>
                <a:gridCol w="2808000"/>
                <a:gridCol w="382680"/>
                <a:gridCol w="2281320"/>
              </a:tblGrid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이용자에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꼭 필요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맞춤형 서비스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폭넓은 지원망을 통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지역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 과정에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질적으로 나은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의 비용효율성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은 물질로 큰 효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적으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당면한 시급한 문제해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리적 안정감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중한 존재라는 존재감 느끼게 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26920" y="1628640"/>
            <a:ext cx="784872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 ▶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이용자에 대한 연계활동 성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에 대한 연계활동 성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11280" y="4437000"/>
          <a:ext cx="8137080" cy="1697040"/>
        </p:xfrm>
        <a:graphic>
          <a:graphicData uri="http://schemas.openxmlformats.org/drawingml/2006/table">
            <a:tbl>
              <a:tblPr/>
              <a:tblGrid>
                <a:gridCol w="1628640"/>
                <a:gridCol w="1626120"/>
                <a:gridCol w="1627560"/>
                <a:gridCol w="1625760"/>
                <a:gridCol w="16290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의 만족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취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이 향상 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적 네트워크가 강화되고 대인 관계가 수월해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능력이 향상되고 지속적인 배움이 가능해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이용자의 입장에서 생각하게 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에 열려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298764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615636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611280" y="1197000"/>
            <a:ext cx="8136000" cy="5040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에 대한 연계활동의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에 대한 연계활동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90792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900000" y="1773360"/>
          <a:ext cx="7488360" cy="1441440"/>
        </p:xfrm>
        <a:graphic>
          <a:graphicData uri="http://schemas.openxmlformats.org/drawingml/2006/table">
            <a:tbl>
              <a:tblPr/>
              <a:tblGrid>
                <a:gridCol w="3071880"/>
                <a:gridCol w="466920"/>
                <a:gridCol w="3949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잠재적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연계 기관과의 관계 긴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홍보 효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관 홍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내 센터 인지도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 입지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할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4067280" y="2276640"/>
            <a:ext cx="288720" cy="215640"/>
          </a:xfrm>
          <a:prstGeom prst="rightArrow">
            <a:avLst>
              <a:gd name="adj1" fmla="val 50000"/>
              <a:gd name="adj2" fmla="val 3347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826920" y="3860640"/>
          <a:ext cx="7704360" cy="2235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1160"/>
                <a:gridCol w="3358800"/>
                <a:gridCol w="30564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부와 나눔의 문화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관심 유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 상생의 관계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로 사는 공생 개념 확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6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공동체 문화 확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리아이라는 생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 복지 중요성 확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중복과 누락 방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절하고 효과적인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스러운 네트워크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효과적인 서비스 연계망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활한 의사소통과 자원의 소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각 사업기관별 사업수행의 이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들의 경험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826920" y="1928880"/>
            <a:ext cx="777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혼란스로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네트워크가 무엇인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생각의 차이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을 통해 배워나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이용자가 필요한 것을 찾아가면서 연계하는 사례 중심 네트워크를 만들어나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를 이용하는 이용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모임이 네트워크 자원이 될 수 있다는 생각을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원이 스스로 움직이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로서로에게 연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퍼져나가는 경험을 통해 센터 중심의 일방적 네트워크가 아니라  자원 서로서로에게 화살표가 오가는 쌍방향 네트워크를 중요하게 생각하게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리 지역에서 가장 필요하고 잘할 수 있는 자신만의 네트워크를 찾아가고자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미 자원은 지역안에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3815640" y="48942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rot="10606200">
            <a:off x="3399840" y="1772640"/>
            <a:ext cx="2122200" cy="33987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6392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 rot="574800">
            <a:off x="1476000" y="3478320"/>
            <a:ext cx="3300480" cy="17971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a9e4f9"/>
              </a:gs>
              <a:gs pos="100000">
                <a:srgbClr val="00b1f0"/>
              </a:gs>
            </a:gsLst>
            <a:lin ang="129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 rot="21130800">
            <a:off x="4073400" y="3478320"/>
            <a:ext cx="3260880" cy="18381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456000" y="4414680"/>
            <a:ext cx="1793880" cy="1584360"/>
            <a:chOff x="3456000" y="4414680"/>
            <a:chExt cx="1793880" cy="1584360"/>
          </a:xfrm>
        </p:grpSpPr>
        <p:sp>
          <p:nvSpPr>
            <p:cNvPr id="790" name=""/>
            <p:cNvSpPr/>
            <p:nvPr/>
          </p:nvSpPr>
          <p:spPr>
            <a:xfrm>
              <a:off x="3456000" y="4414680"/>
              <a:ext cx="1793880" cy="1584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60840" y="4440960"/>
              <a:ext cx="1383840" cy="59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9954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자생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3897360" y="26827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사례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57088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쌍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3405240" y="4995720"/>
            <a:ext cx="187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191628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자원중심에서 사례중심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5435640" y="557532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일방에서 쌍방이 오가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551664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공식에서 자생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희망네트워크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척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8/5.0=76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변화의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동기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신념체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원획득과 활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와 연계자원이 인식한 지역사회 아동복지 네트워크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826920" y="1928880"/>
            <a:ext cx="777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116000" y="1844640"/>
          <a:ext cx="7201080" cy="4160880"/>
        </p:xfrm>
        <a:graphic>
          <a:graphicData uri="http://schemas.openxmlformats.org/drawingml/2006/table">
            <a:tbl>
              <a:tblPr/>
              <a:tblGrid>
                <a:gridCol w="1717560"/>
                <a:gridCol w="1144800"/>
                <a:gridCol w="1338120"/>
                <a:gridCol w="1274760"/>
                <a:gridCol w="1725840"/>
              </a:tblGrid>
              <a:tr h="50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적인 지역사회 아동복지 네트워크 수준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했을 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귀하가 속한 지역사회 아동복지 네트워크 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 – 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 – 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 – 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 –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가 생각한 지역사회 아동복지 네트워크 수준   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8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이 생각한 지역사회 아동복지 네트워크 수준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.99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5003640" y="3284640"/>
            <a:ext cx="2923560" cy="2607840"/>
            <a:chOff x="5003640" y="3284640"/>
            <a:chExt cx="2923560" cy="2607840"/>
          </a:xfrm>
        </p:grpSpPr>
        <p:sp>
          <p:nvSpPr>
            <p:cNvPr id="818" name=""/>
            <p:cNvSpPr/>
            <p:nvPr/>
          </p:nvSpPr>
          <p:spPr>
            <a:xfrm>
              <a:off x="5998680" y="3284640"/>
              <a:ext cx="900360" cy="13366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4e6c1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74800">
              <a:off x="5055480" y="3897720"/>
              <a:ext cx="1562040" cy="738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9e4f9"/>
                </a:gs>
                <a:gs pos="100000">
                  <a:srgbClr val="00b1f0"/>
                </a:gs>
              </a:gsLst>
              <a:lin ang="129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118800">
              <a:off x="5051520" y="4615920"/>
              <a:ext cx="1571760" cy="7398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7c9ec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8680" y="4599720"/>
              <a:ext cx="857160" cy="129276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ea9cb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21400">
              <a:off x="6295320" y="4659480"/>
              <a:ext cx="1500480" cy="6901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ed3bd"/>
                </a:gs>
              </a:gsLst>
              <a:lin ang="129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1130800">
              <a:off x="6341040" y="3936240"/>
              <a:ext cx="1543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eda9"/>
                </a:gs>
              </a:gsLst>
              <a:lin ang="85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046920" y="4320000"/>
              <a:ext cx="690480" cy="613440"/>
              <a:chOff x="6046920" y="4320000"/>
              <a:chExt cx="690480" cy="613440"/>
            </a:xfrm>
          </p:grpSpPr>
          <p:sp>
            <p:nvSpPr>
              <p:cNvPr id="825" name=""/>
              <p:cNvSpPr/>
              <p:nvPr/>
            </p:nvSpPr>
            <p:spPr>
              <a:xfrm>
                <a:off x="6046920" y="4320000"/>
                <a:ext cx="690480" cy="6134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25760" y="4330080"/>
                <a:ext cx="532800" cy="23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003640" y="40003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6240" y="35704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4840" y="3990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7912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34840" y="5411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21130800">
            <a:off x="2504880" y="5333760"/>
            <a:ext cx="1566720" cy="4190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 rot="9592800">
            <a:off x="1766520" y="5303880"/>
            <a:ext cx="1879560" cy="3333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ff7e3d"/>
              </a:gs>
              <a:gs pos="100000">
                <a:srgbClr val="fed3bd"/>
              </a:gs>
            </a:gsLst>
            <a:lin ang="3906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 rot="4204200">
            <a:off x="1625400" y="4473360"/>
            <a:ext cx="444240" cy="20952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19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 rot="21118800">
            <a:off x="755640" y="5229360"/>
            <a:ext cx="720720" cy="67608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e7c9ec"/>
              </a:gs>
              <a:gs pos="100000">
                <a:srgbClr val="bc61cb"/>
              </a:gs>
            </a:gsLst>
            <a:lin ang="112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395280" y="5445000"/>
            <a:ext cx="693720" cy="4478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cb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D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전략 탐색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4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4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이용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관련 전문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4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5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072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7440" y="3592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2315520" y="3357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문지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문헌자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57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59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7440" y="4745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2315520" y="451044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방법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 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65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67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사업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315520" y="2133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참여주체들이 인식하고 있는 사업목적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특징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의 강점과 약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강점과 약점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72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25400" y="479556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특성화전략탐색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315520" y="451044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결과 등을 바탕으로 사업방향 제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7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108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5520" y="359280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외부환경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315520" y="3357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표적집단 규모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빈곤아동관련 정책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유사서비스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회와 위협요인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261936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3260160" y="141300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초기 우리아이 희망네트워크 지원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338920" y="2539800"/>
            <a:ext cx="4581720" cy="2881440"/>
            <a:chOff x="2338920" y="2539800"/>
            <a:chExt cx="4581720" cy="2881440"/>
          </a:xfrm>
        </p:grpSpPr>
        <p:cxnSp>
          <p:nvCxnSpPr>
            <p:cNvPr id="891" name="_s227336"/>
            <p:cNvCxnSpPr>
              <a:stCxn id="892" idx="0"/>
              <a:endCxn id="893" idx="2"/>
            </p:cNvCxnSpPr>
            <p:nvPr/>
          </p:nvCxnSpPr>
          <p:spPr>
            <a:xfrm flipV="1" rot="16200000">
              <a:off x="5125320" y="2692800"/>
              <a:ext cx="229320" cy="1191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4" name="_s227337"/>
            <p:cNvCxnSpPr>
              <a:stCxn id="895" idx="0"/>
              <a:endCxn id="893" idx="2"/>
            </p:cNvCxnSpPr>
            <p:nvPr/>
          </p:nvCxnSpPr>
          <p:spPr>
            <a:xfrm flipH="1" flipV="1" rot="5400000">
              <a:off x="3933000" y="2691360"/>
              <a:ext cx="229320" cy="119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893" name="_s227338"/>
            <p:cNvSpPr/>
            <p:nvPr/>
          </p:nvSpPr>
          <p:spPr>
            <a:xfrm>
              <a:off x="4005720" y="2539800"/>
              <a:ext cx="1276920" cy="63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강점관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사례관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_s227339"/>
            <p:cNvSpPr/>
            <p:nvPr/>
          </p:nvSpPr>
          <p:spPr>
            <a:xfrm>
              <a:off x="2365920" y="3403440"/>
              <a:ext cx="2170800" cy="63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동을 중심으로 한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가족기반 서비스 제공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_s227340"/>
            <p:cNvSpPr/>
            <p:nvPr/>
          </p:nvSpPr>
          <p:spPr>
            <a:xfrm>
              <a:off x="4749840" y="3403440"/>
              <a:ext cx="2170800" cy="63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네트워크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920" y="5013360"/>
              <a:ext cx="44956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a7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이를 함께 키우는 이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,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627280" y="4366080"/>
            <a:ext cx="381636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지역사회 내 지속적 아동보호기반 마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500720" y="4724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1268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참여주체별 인식한 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68360" y="1700280"/>
          <a:ext cx="8013600" cy="4406760"/>
        </p:xfrm>
        <a:graphic>
          <a:graphicData uri="http://schemas.openxmlformats.org/drawingml/2006/table">
            <a:tbl>
              <a:tblPr/>
              <a:tblGrid>
                <a:gridCol w="718920"/>
                <a:gridCol w="1019520"/>
                <a:gridCol w="2009520"/>
                <a:gridCol w="1119240"/>
                <a:gridCol w="1325520"/>
                <a:gridCol w="18208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의 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초기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례관리를 통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의 질 제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의 발달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합적 욕구해결을 위한 가족기반 서비스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네트워크 활용 및 구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내 지속적 아동보호기반 마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실무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안에서 아동보호시스템을 만들어 가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가 책임감과 공동체 의식을 갖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스스로 해결할 수 있는 역량을 키워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이들이 행복하고 건강하게 자랄 수 있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연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자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집중적인 사례관리를 실시하는 것임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실질적으로 필요한 서비스를 다각적으로 제공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부모의 경제활동 등으로 방임되는 아동들을 보호해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어려운 가정을 도와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사각지대를 해결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3674520" y="1268280"/>
            <a:ext cx="27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 rot="20241600">
            <a:off x="1907640" y="2276280"/>
            <a:ext cx="6075360" cy="335736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edede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4284720" y="184464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1547640" y="443700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d26f5e"/>
              </a:gs>
              <a:gs pos="100000">
                <a:srgbClr val="41221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5869080" y="429264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5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6948360" y="198900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51afb9"/>
              </a:gs>
              <a:gs pos="100000">
                <a:srgbClr val="1b3c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"/>
          <p:cNvSpPr/>
          <p:nvPr/>
        </p:nvSpPr>
        <p:spPr>
          <a:xfrm>
            <a:off x="1692360" y="46530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자원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"/>
          <p:cNvSpPr/>
          <p:nvPr/>
        </p:nvSpPr>
        <p:spPr>
          <a:xfrm>
            <a:off x="4429080" y="1989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강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450864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주체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317808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칭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7093080" y="206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중심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3708360" y="3284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ccecff">
                  <a:alpha val="60392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cce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희망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원사업 특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0" y="5229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비공식자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195640" y="2565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8002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27082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>
            <a:off x="3414240" y="1268280"/>
            <a:ext cx="33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55640" y="2060640"/>
          <a:ext cx="7786440" cy="326232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2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관점 실천접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 네트워크 활용과 구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이고 개별화된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탄력적 운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낮은 사업인지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프로젝트사업으로 인한 제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내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 내 자원부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관과의 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성격차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례관리 집중의 어려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5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인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55640" y="2060640"/>
          <a:ext cx="7786800" cy="3168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 통합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집중적인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자원망 구축과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와 참여자간의 관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확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지역사회 자원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적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부모의 역할참여 촉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연계자원과의 적절한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홍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을 대하는 실무자의 태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을 추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전반적인 만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조직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55640" y="2060640"/>
          <a:ext cx="7786800" cy="36226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자원망 구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가족기반의 통합적 아동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들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 주도적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맞춤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접근성이 좋은 센터의 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전문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슈퍼비젼 체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관련 기관과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확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희망센터 역할에 대한 이해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안정성과 지속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하고 전문적인 서비스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의 다양한 참여기회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755640" y="1844640"/>
          <a:ext cx="7848720" cy="3443400"/>
        </p:xfrm>
        <a:graphic>
          <a:graphicData uri="http://schemas.openxmlformats.org/drawingml/2006/table">
            <a:tbl>
              <a:tblPr/>
              <a:tblGrid>
                <a:gridCol w="458640"/>
                <a:gridCol w="1125720"/>
                <a:gridCol w="1079640"/>
                <a:gridCol w="792000"/>
                <a:gridCol w="720720"/>
                <a:gridCol w="863640"/>
                <a:gridCol w="1008000"/>
                <a:gridCol w="936720"/>
                <a:gridCol w="863640"/>
              </a:tblGrid>
              <a:tr h="7923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아동빈곤율과 빈곤아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단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미만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전체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7,849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,176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8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979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,718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628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연령별 추계인구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 홈페이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    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김미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빈곤아동 지원정책 고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보건복지포럼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국보건사회연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6.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1773360"/>
            <a:ext cx="72723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계층의 규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2003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년 기준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최저생계비의 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20%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8.6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284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 인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5.1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71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아동가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6.3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9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242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2556000" y="9079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빈곤아동 관련 주요 사회복지 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258920" y="1773360"/>
          <a:ext cx="6696000" cy="410976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  <a:gridCol w="3228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부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소년소녀가정지원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육료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급식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발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계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민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아동센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저소득층학생 수능공부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인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원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복지 투자우선지역 시범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2556000" y="907920"/>
            <a:ext cx="5688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스타트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교육복지투자우선지역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네트워크 지원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206064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유사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층 아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추진전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 아동보호체계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내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통합서비스 제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23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755640" y="1916280"/>
          <a:ext cx="7776720" cy="4104720"/>
        </p:xfrm>
        <a:graphic>
          <a:graphicData uri="http://schemas.openxmlformats.org/drawingml/2006/table">
            <a:tbl>
              <a:tblPr/>
              <a:tblGrid>
                <a:gridCol w="997920"/>
                <a:gridCol w="2259360"/>
                <a:gridCol w="2260440"/>
                <a:gridCol w="2259000"/>
              </a:tblGrid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133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층 아동의 인적자본 개발을 통한 빈곤대물림차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력증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문화적 욕구충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원망 구축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격차 해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내 지속적 아동보호기반 마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체계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추진전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보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복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중심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이용자중심의 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적 자원망 강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대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26920" y="1197000"/>
          <a:ext cx="7561080" cy="4320360"/>
        </p:xfrm>
        <a:graphic>
          <a:graphicData uri="http://schemas.openxmlformats.org/drawingml/2006/table">
            <a:tbl>
              <a:tblPr/>
              <a:tblGrid>
                <a:gridCol w="2576880"/>
                <a:gridCol w="2576160"/>
                <a:gridCol w="1203840"/>
                <a:gridCol w="1204200"/>
              </a:tblGrid>
              <a:tr h="98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유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3~1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고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학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조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부모가정 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령제한은 없으나 현재 서비스이용아동의 연령이 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2d2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+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차상위계층 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성과 영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042920" y="1628640"/>
          <a:ext cx="7416720" cy="4971960"/>
        </p:xfrm>
        <a:graphic>
          <a:graphicData uri="http://schemas.openxmlformats.org/drawingml/2006/table">
            <a:tbl>
              <a:tblPr/>
              <a:tblGrid>
                <a:gridCol w="725400"/>
                <a:gridCol w="1912320"/>
                <a:gridCol w="2016360"/>
                <a:gridCol w="276264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업성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영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의 건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정환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와 가정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의 심리적 상태 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기능과 아동양육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성취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회정서적 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생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정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일상생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활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조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지역네트워크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위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역할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영향 및 결과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기효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학교적응유연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생활만족도 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자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활동내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질적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지역유형별 특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실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중심실천정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능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실천원리에 대한 이해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a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의 경우 아직 평가연구된 것이 없는 관계로 이봉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(2007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20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년 경기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We star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마을 사업효과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·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효율성 평가보고서 요약본」의 내용을 활용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20905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SWOT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분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826920" y="981000"/>
          <a:ext cx="7561440" cy="5446800"/>
        </p:xfrm>
        <a:graphic>
          <a:graphicData uri="http://schemas.openxmlformats.org/drawingml/2006/table">
            <a:tbl>
              <a:tblPr/>
              <a:tblGrid>
                <a:gridCol w="3645000"/>
                <a:gridCol w="3916440"/>
              </a:tblGrid>
              <a:tr h="439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약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관점 실천접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공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자원활용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대상과 내용의 포괄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이고 집중적인 사례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별화된 맞춤형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탄력있는 운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능력과 자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연계기관과의 긴밀한 파트너 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구축이 아직 취약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홍보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담당자의 잦은 변동 등으로 인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안정성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사례관리와 타 업무병행의 어려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적 취약성 등으로 인한 자원의 한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센터별 사업이해도와 역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성과수준의 차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위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 사례관리 필요성에 대한 사회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감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복지에 대한 국가적 투자로 복지총량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아동을 대상으로 한 서비스 시장의 난립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중복문제의 가능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으로 인한 사업정체성과 명분의 혼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과 차별성부각의 미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>
            <a:off x="23731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539640" y="1916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간기관의 강점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융통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유연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감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접촉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부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서비스 이용자 중심의 비공식적 자원망 개발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실무자들의 전문성과 헌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사업의 질적 성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2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0%), 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진행사례 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큰 차이 없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"/>
          <p:cNvSpPr/>
          <p:nvPr/>
        </p:nvSpPr>
        <p:spPr>
          <a:xfrm>
            <a:off x="539640" y="191628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지역사회 내 다양한 사회복지 자원들과 매개하여 유기적이고 협동적인 지역사회 보호체계를 만들어 나가는 것은 매우 의미있는 시도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희망네트워크 지원사업은 실천현장 경험에 기초한 연구를 통해 우리나라에서 강점관점에 기초한 지역사회 네트워크 구축과 통합적 사례관리의 실천 가능성을 확인하는 것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향후 변화하는 사회복지환경 속에서 적절한 대응과 전략수립이 요구됨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1118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1143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1151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0:38Z</dcterms:created>
  <dc:creator>Windows XP Professional</dc:creator>
  <dc:description/>
  <cp:keywords/>
  <dc:language>en-US</dc:language>
  <cp:lastModifiedBy>SEC</cp:lastModifiedBy>
  <dcterms:modified xsi:type="dcterms:W3CDTF">2008-04-22T06:15:39Z</dcterms:modified>
  <cp:revision>2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1033</vt:lpwstr>
  </property>
</Properties>
</file>